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280F-7981-48A3-8E9E-326FF251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4 1.29 1.20 1.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861-1EA4-4311-85AC-C36873CE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77A-0058-4365-A884-47686CC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A33-2FC8-4710-B36E-18F89503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8AE-73F7-49B9-9213-219E9F3D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9B0-6B4C-416A-B5E0-A6AF7E1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E47-8077-4A24-8768-85F924E7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D26-6ED2-47DD-9782-21306BA7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5DB-9B5B-4A16-A576-37781E21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ACF-8270-4AB5-A233-CF6864E0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8B1-C422-4805-BA59-6587DC6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DF5-8204-4C10-B6FB-383E8BE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2CB-5E02-41F9-BAA3-621021EB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C735-ED7A-48C7-B861-06913C46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c2c"/>
            </a:gs>
            <a:gs pos="100000">
              <a:srgbClr val="1385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6.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ctions, Decimals, and Perc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avannah Green, Alex Voigt, and Libby Goe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each number as a per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46/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 1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each set of numbers from least to grea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 ¼, 0.26, 31%, 2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¼, 0.26, 2/7, 3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 88%, 91%, 5/6, 0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1, 5/6, 88%, 9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1.34, 129%, 1 1/5, 1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/5, 129%, 1.34, 1.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51ab"/>
            </a:gs>
            <a:gs pos="50000">
              <a:srgbClr val="ff0000"/>
            </a:gs>
            <a:gs pos="100000">
              <a:srgbClr val="af51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Percent as a 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05120"/>
            <a:ext cx="13716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/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981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1981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905120"/>
            <a:ext cx="20574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304812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 a fraction with a denominator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 a mix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676160" y="32767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00200" y="47242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715000" y="5867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5ed"/>
            </a:gs>
            <a:gs pos="50000">
              <a:srgbClr val="00ffff"/>
            </a:gs>
            <a:gs pos="100000">
              <a:srgbClr val="1385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Percent as a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2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%=  2.2/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0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819520"/>
            <a:ext cx="3276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 a fraction with a denominator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by moving the decimal point left two places.  You may need to write one or more z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Number as a Per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828800"/>
            <a:ext cx="23623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33 =  33/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33.3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3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752480"/>
            <a:ext cx="25905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80 = 0.0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0.0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8.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72360" y="3657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199" y="10160"/>
                </a:moveTo>
                <a:lnTo>
                  <a:pt x="20199" y="1016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72360" y="3657600"/>
            <a:ext cx="260280" cy="189000"/>
          </a:xfrm>
          <a:custGeom>
            <a:avLst/>
            <a:gdLst/>
            <a:ahLst/>
            <a:rect l="l" t="t" r="r" b="b"/>
            <a:pathLst>
              <a:path w="727" h="525">
                <a:moveTo>
                  <a:pt x="20199" y="10160"/>
                </a:moveTo>
                <a:cubicBezTo>
                  <a:pt x="20199" y="10268"/>
                  <a:pt x="20211" y="10347"/>
                  <a:pt x="20239" y="10402"/>
                </a:cubicBezTo>
                <a:cubicBezTo>
                  <a:pt x="20260" y="10445"/>
                  <a:pt x="20315" y="10468"/>
                  <a:pt x="20360" y="10483"/>
                </a:cubicBezTo>
                <a:cubicBezTo>
                  <a:pt x="20400" y="10470"/>
                  <a:pt x="20434" y="10468"/>
                  <a:pt x="20481" y="10442"/>
                </a:cubicBezTo>
                <a:cubicBezTo>
                  <a:pt x="20513" y="10425"/>
                  <a:pt x="20597" y="10371"/>
                  <a:pt x="20602" y="10362"/>
                </a:cubicBezTo>
                <a:cubicBezTo>
                  <a:pt x="20614" y="10338"/>
                  <a:pt x="20602" y="10097"/>
                  <a:pt x="20602" y="10200"/>
                </a:cubicBezTo>
                <a:cubicBezTo>
                  <a:pt x="20602" y="10301"/>
                  <a:pt x="20618" y="10354"/>
                  <a:pt x="20643" y="10402"/>
                </a:cubicBezTo>
                <a:cubicBezTo>
                  <a:pt x="20666" y="10447"/>
                  <a:pt x="20643" y="10503"/>
                  <a:pt x="20683" y="10523"/>
                </a:cubicBezTo>
                <a:cubicBezTo>
                  <a:pt x="20739" y="10551"/>
                  <a:pt x="20723" y="10566"/>
                  <a:pt x="20723" y="10644"/>
                </a:cubicBezTo>
                <a:cubicBezTo>
                  <a:pt x="20723" y="10657"/>
                  <a:pt x="20723" y="10671"/>
                  <a:pt x="20723" y="10684"/>
                </a:cubicBezTo>
                <a:cubicBezTo>
                  <a:pt x="20819" y="10684"/>
                  <a:pt x="20784" y="10671"/>
                  <a:pt x="20844" y="10603"/>
                </a:cubicBezTo>
                <a:cubicBezTo>
                  <a:pt x="20884" y="10558"/>
                  <a:pt x="20918" y="10501"/>
                  <a:pt x="20925" y="10442"/>
                </a:cubicBezTo>
                <a:cubicBezTo>
                  <a:pt x="20934" y="10364"/>
                  <a:pt x="20925" y="10279"/>
                  <a:pt x="20925" y="1020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percent as a decimal, write the percent as a fraction with a denominator of 100.  Then divide to convert the fraction to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decimal as a percent, rewrite the decimal as a fraction with a denominator of 100.  Then write the fraction as a per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fraction as a percent, divide to write as a decimal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numbers from least to greatest.  0.35, 2/5, 30%, and 5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5 = 0.40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= 0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% = 0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, 0.35, 2/5, 5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students surveyed their English classes asking, “Do you have a pet in your home?” They reported the results as 0.35, 2/5, 30%, and 53%.  Order the results from least to grea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20040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5  = 0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= 0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= 0.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3200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each fraction or percent as a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0.30 &lt; 0.35 &lt; 0.40 &lt; 0.53, the numbers in order from least to greatest are 30% &lt; 0.35 &lt; 2/5 &lt; 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af51a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each percent as a fraction or mixed number in simples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5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7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 1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/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/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s a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6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9:22:55Z</dcterms:created>
  <dc:creator>Student</dc:creator>
  <dc:description/>
  <dc:language>en-US</dc:language>
  <cp:lastModifiedBy>Student</cp:lastModifiedBy>
  <dcterms:modified xsi:type="dcterms:W3CDTF">2010-03-10T19:07:08Z</dcterms:modified>
  <cp:revision>8</cp:revision>
  <dc:subject/>
  <dc:title>Section 6.5</dc:title>
</cp:coreProperties>
</file>